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61760" y="37666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7440" y="12193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1760" y="37666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27440" y="37666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2360" y="12193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63320" y="12193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61760" y="37666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2360" y="37666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63320" y="37666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6176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3681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27440" y="1219320"/>
            <a:ext cx="3681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3808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27440" y="1219320"/>
            <a:ext cx="3681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61760" y="37666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3681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12193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27440" y="37666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12193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1760" y="37666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5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8001000" cy="5333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176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9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37.xml"/><Relationship Id="rId3" Type="http://schemas.openxmlformats.org/officeDocument/2006/relationships/slide" Target="slide47.xml"/><Relationship Id="rId4" Type="http://schemas.openxmlformats.org/officeDocument/2006/relationships/slide" Target="slide48.xml"/><Relationship Id="rId5" Type="http://schemas.openxmlformats.org/officeDocument/2006/relationships/slide" Target="slide51.xml"/><Relationship Id="rId6" Type="http://schemas.openxmlformats.org/officeDocument/2006/relationships/slide" Target="slide53.xml"/><Relationship Id="rId7" Type="http://schemas.openxmlformats.org/officeDocument/2006/relationships/slide" Target="slide57.xml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7.xml"/><Relationship Id="rId6" Type="http://schemas.openxmlformats.org/officeDocument/2006/relationships/slide" Target="slide19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00"/>
                </a:solidFill>
                <a:latin typeface="Arial"/>
                <a:ea typeface="黑体"/>
              </a:rPr>
              <a:t>第</a:t>
            </a:r>
            <a:r>
              <a:rPr b="1" lang="zh-CN" sz="3200" spc="-1" strike="noStrike">
                <a:solidFill>
                  <a:srgbClr val="cccc00"/>
                </a:solidFill>
                <a:latin typeface="Arial"/>
                <a:ea typeface="Arial"/>
              </a:rPr>
              <a:t>3</a:t>
            </a:r>
            <a:r>
              <a:rPr b="1" lang="zh-CN" sz="3200" spc="-1" strike="noStrike">
                <a:solidFill>
                  <a:srgbClr val="cccc00"/>
                </a:solidFill>
                <a:latin typeface="Arial"/>
                <a:ea typeface="黑体"/>
              </a:rPr>
              <a:t>章</a:t>
            </a:r>
            <a:r>
              <a:rPr b="1" lang="zh-CN" sz="3200" spc="-1" strike="noStrike">
                <a:solidFill>
                  <a:srgbClr val="cccc00"/>
                </a:solidFill>
                <a:latin typeface="Arial"/>
                <a:ea typeface="Arial"/>
              </a:rPr>
              <a:t>  </a:t>
            </a:r>
            <a:r>
              <a:rPr b="1" lang="zh-CN" sz="3200" spc="-1" strike="noStrike">
                <a:solidFill>
                  <a:srgbClr val="cccc00"/>
                </a:solidFill>
                <a:latin typeface="Arial"/>
                <a:ea typeface="Arial"/>
              </a:rPr>
              <a:t>MCS-51</a:t>
            </a:r>
            <a:r>
              <a:rPr b="1" lang="zh-CN" sz="3200" spc="-1" strike="noStrike">
                <a:solidFill>
                  <a:srgbClr val="cccc00"/>
                </a:solidFill>
                <a:latin typeface="Arial"/>
                <a:ea typeface="黑体"/>
              </a:rPr>
              <a:t>单片机指令系统</a:t>
            </a: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3880" y="1566360"/>
            <a:ext cx="556272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hlinkClick r:id="rId1" action="ppaction://hlinksldjump"/>
              </a:rPr>
              <a:t>3.1  </a:t>
            </a: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hlinkClick r:id="rId2" action="ppaction://hlinksldjump"/>
              </a:rPr>
              <a:t>MCS-51</a:t>
            </a: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hlinkClick r:id="rId3" action="ppaction://hlinksldjump"/>
              </a:rPr>
              <a:t>指令系统的分类、格式及一般说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hlinkClick r:id="rId4" action="ppaction://hlinksldjump"/>
              </a:rPr>
              <a:t>3.2  寻址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hlinkClick r:id="rId5" action="ppaction://hlinksldjump"/>
              </a:rPr>
              <a:t>3.3  分类指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3.2.1  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立即寻址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指令中直接给出操作数的寻址方式。立即操作数用前面加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号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数来表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如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# 6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←#60H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PT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# 340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PTR←#3400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# 4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元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#40H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述三条指令执行完后，累加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数据为立即数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PT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存器中数据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40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元中数据为立即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236000" y="637344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8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3.2.2  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直接寻址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指令中直接给出操作数地址的寻址方式，能进行直接寻址的存储空间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F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存器和内部数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如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S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# 20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SW←#20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SW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直接寻址寄存器的符号地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←3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元中的内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直接给出的内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地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236000" y="637344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8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3.2.3  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寄存器寻址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1760" y="1285560"/>
            <a:ext cx="754380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通用寄存器的内容为操作数的寻址方式。通用寄存器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PT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7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如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LR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←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NC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PT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PTR←DPTR+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# 2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5←#20H+R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36000" y="637344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8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3.2.4  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寄存器间接寻址</a:t>
            </a: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352520"/>
            <a:ext cx="754380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寄存器中内容为地址，以该地址中内容为操作数的寻址方式。间接寻址的存储器空间包括内部数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外部数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能用于寄存器间接寻址的寄存器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PT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其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必须是工作寄存器组中的寄存器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仅用于堆栈操作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如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   @R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内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AM(R0)←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指令操作过程示意图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-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如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X 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@R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外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AM(P2R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指令操作过程示意图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-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再如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X  @DPT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外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AM(DPTR)←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指令操作过程示意图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-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1066680" y="1295280"/>
            <a:ext cx="6705360" cy="3885840"/>
            <a:chOff x="1066680" y="1295280"/>
            <a:chExt cx="6705360" cy="3885840"/>
          </a:xfrm>
        </p:grpSpPr>
        <p:sp>
          <p:nvSpPr>
            <p:cNvPr id="78" name=""/>
            <p:cNvSpPr/>
            <p:nvPr/>
          </p:nvSpPr>
          <p:spPr>
            <a:xfrm>
              <a:off x="5742720" y="1718640"/>
              <a:ext cx="2029320" cy="265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29480" y="1295280"/>
              <a:ext cx="162864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片内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R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42720" y="2119320"/>
              <a:ext cx="2029320" cy="9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42720" y="2722320"/>
              <a:ext cx="2029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066680" y="4610160"/>
              <a:ext cx="669060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51000" y="2110320"/>
              <a:ext cx="136116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30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49720" y="2110320"/>
              <a:ext cx="66852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49200" y="3491640"/>
              <a:ext cx="1389240" cy="47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34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485000" y="3491640"/>
              <a:ext cx="6681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83880" y="2718000"/>
              <a:ext cx="125424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30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89280" y="2593800"/>
              <a:ext cx="2082240" cy="423360"/>
            </a:xfrm>
            <a:custGeom>
              <a:avLst/>
              <a:gdLst/>
              <a:ahLst/>
              <a:rect l="l" t="t" r="r" b="b"/>
              <a:pathLst>
                <a:path w="684" h="276">
                  <a:moveTo>
                    <a:pt x="0" y="0"/>
                  </a:moveTo>
                  <a:cubicBezTo>
                    <a:pt x="15" y="79"/>
                    <a:pt x="30" y="158"/>
                    <a:pt x="144" y="204"/>
                  </a:cubicBezTo>
                  <a:cubicBezTo>
                    <a:pt x="258" y="250"/>
                    <a:pt x="592" y="262"/>
                    <a:pt x="684" y="2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64200" y="3063240"/>
              <a:ext cx="3284280" cy="776520"/>
            </a:xfrm>
            <a:custGeom>
              <a:avLst/>
              <a:gdLst/>
              <a:ahLst/>
              <a:rect l="l" t="t" r="r" b="b"/>
              <a:pathLst>
                <a:path w="1476" h="506">
                  <a:moveTo>
                    <a:pt x="0" y="444"/>
                  </a:moveTo>
                  <a:cubicBezTo>
                    <a:pt x="321" y="475"/>
                    <a:pt x="642" y="506"/>
                    <a:pt x="888" y="432"/>
                  </a:cubicBezTo>
                  <a:cubicBezTo>
                    <a:pt x="1134" y="358"/>
                    <a:pt x="1378" y="72"/>
                    <a:pt x="147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86080" y="2694960"/>
              <a:ext cx="162900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34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5120" y="56386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-1  MOV @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间接寻址示意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533520" y="533520"/>
            <a:ext cx="8153280" cy="4647600"/>
            <a:chOff x="533520" y="533520"/>
            <a:chExt cx="8153280" cy="4647600"/>
          </a:xfrm>
        </p:grpSpPr>
        <p:sp>
          <p:nvSpPr>
            <p:cNvPr id="93" name=""/>
            <p:cNvSpPr/>
            <p:nvPr/>
          </p:nvSpPr>
          <p:spPr>
            <a:xfrm>
              <a:off x="2932200" y="1026000"/>
              <a:ext cx="1012320" cy="308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71800" y="533520"/>
              <a:ext cx="812880" cy="4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片外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32200" y="1491840"/>
              <a:ext cx="1012320" cy="113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32200" y="2193120"/>
              <a:ext cx="101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3520" y="4516920"/>
              <a:ext cx="3704400" cy="66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741960" y="1095480"/>
              <a:ext cx="1043280" cy="599400"/>
              <a:chOff x="741960" y="1095480"/>
              <a:chExt cx="1043280" cy="599400"/>
            </a:xfrm>
          </p:grpSpPr>
          <p:sp>
            <p:nvSpPr>
              <p:cNvPr id="99" name=""/>
              <p:cNvSpPr/>
              <p:nvPr/>
            </p:nvSpPr>
            <p:spPr>
              <a:xfrm>
                <a:off x="1105920" y="1095480"/>
                <a:ext cx="679320" cy="556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601"/>
                  </a:spcBef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34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41960" y="1095480"/>
                <a:ext cx="33300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P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092960" y="3087360"/>
              <a:ext cx="693000" cy="55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45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6280" y="3087360"/>
              <a:ext cx="333000" cy="59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32080" y="2188080"/>
              <a:ext cx="626400" cy="4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3410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52360" y="1743480"/>
              <a:ext cx="199800" cy="770760"/>
            </a:xfrm>
            <a:custGeom>
              <a:avLst/>
              <a:gdLst/>
              <a:ahLst/>
              <a:rect l="l" t="t" r="r" b="b"/>
              <a:pathLst>
                <a:path w="684" h="276">
                  <a:moveTo>
                    <a:pt x="0" y="0"/>
                  </a:moveTo>
                  <a:cubicBezTo>
                    <a:pt x="15" y="79"/>
                    <a:pt x="30" y="158"/>
                    <a:pt x="144" y="204"/>
                  </a:cubicBezTo>
                  <a:cubicBezTo>
                    <a:pt x="258" y="250"/>
                    <a:pt x="592" y="262"/>
                    <a:pt x="684" y="2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35920" y="2589480"/>
              <a:ext cx="1639080" cy="902880"/>
            </a:xfrm>
            <a:custGeom>
              <a:avLst/>
              <a:gdLst/>
              <a:ahLst/>
              <a:rect l="l" t="t" r="r" b="b"/>
              <a:pathLst>
                <a:path w="1476" h="506">
                  <a:moveTo>
                    <a:pt x="0" y="444"/>
                  </a:moveTo>
                  <a:cubicBezTo>
                    <a:pt x="321" y="475"/>
                    <a:pt x="642" y="506"/>
                    <a:pt x="888" y="432"/>
                  </a:cubicBezTo>
                  <a:cubicBezTo>
                    <a:pt x="1134" y="358"/>
                    <a:pt x="1378" y="72"/>
                    <a:pt x="147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52080" y="2161440"/>
              <a:ext cx="812880" cy="4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45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759600" y="1791720"/>
              <a:ext cx="1043280" cy="599040"/>
              <a:chOff x="759600" y="1791720"/>
              <a:chExt cx="1043280" cy="599040"/>
            </a:xfrm>
          </p:grpSpPr>
          <p:sp>
            <p:nvSpPr>
              <p:cNvPr id="108" name=""/>
              <p:cNvSpPr/>
              <p:nvPr/>
            </p:nvSpPr>
            <p:spPr>
              <a:xfrm>
                <a:off x="1123560" y="1791720"/>
                <a:ext cx="679320" cy="55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601"/>
                  </a:spcBef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10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59600" y="1791720"/>
                <a:ext cx="333000" cy="59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1883520" y="1234800"/>
              <a:ext cx="133200" cy="1027800"/>
            </a:xfrm>
            <a:custGeom>
              <a:avLst/>
              <a:gdLst>
                <a:gd name="textAreaLeft" fmla="*/ 0 w 133200"/>
                <a:gd name="textAreaRight" fmla="*/ 47880 w 133200"/>
                <a:gd name="textAreaTop" fmla="*/ 26640 h 1027800"/>
                <a:gd name="textAreaBottom" fmla="*/ 1001160 h 102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276320" y="1026000"/>
              <a:ext cx="1012320" cy="308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16280" y="533520"/>
              <a:ext cx="812880" cy="4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片外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76320" y="1491840"/>
              <a:ext cx="1012320" cy="113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276320" y="2193120"/>
              <a:ext cx="101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5640" y="4516920"/>
              <a:ext cx="3971160" cy="66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68400" y="1391760"/>
              <a:ext cx="697320" cy="55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2000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46680" y="1391760"/>
              <a:ext cx="601560" cy="59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37440" y="3087360"/>
              <a:ext cx="693000" cy="55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30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90760" y="3087360"/>
              <a:ext cx="333000" cy="59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76560" y="2188080"/>
              <a:ext cx="626040" cy="4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2000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83760" y="1932480"/>
              <a:ext cx="812880" cy="581760"/>
            </a:xfrm>
            <a:custGeom>
              <a:avLst/>
              <a:gdLst/>
              <a:ahLst/>
              <a:rect l="l" t="t" r="r" b="b"/>
              <a:pathLst>
                <a:path w="684" h="276">
                  <a:moveTo>
                    <a:pt x="0" y="0"/>
                  </a:moveTo>
                  <a:cubicBezTo>
                    <a:pt x="15" y="79"/>
                    <a:pt x="30" y="158"/>
                    <a:pt x="144" y="204"/>
                  </a:cubicBezTo>
                  <a:cubicBezTo>
                    <a:pt x="258" y="250"/>
                    <a:pt x="592" y="262"/>
                    <a:pt x="684" y="2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80400" y="2589480"/>
              <a:ext cx="1639080" cy="902880"/>
            </a:xfrm>
            <a:custGeom>
              <a:avLst/>
              <a:gdLst/>
              <a:ahLst/>
              <a:rect l="l" t="t" r="r" b="b"/>
              <a:pathLst>
                <a:path w="1476" h="506">
                  <a:moveTo>
                    <a:pt x="0" y="444"/>
                  </a:moveTo>
                  <a:cubicBezTo>
                    <a:pt x="321" y="475"/>
                    <a:pt x="642" y="506"/>
                    <a:pt x="888" y="432"/>
                  </a:cubicBezTo>
                  <a:cubicBezTo>
                    <a:pt x="1134" y="358"/>
                    <a:pt x="1378" y="72"/>
                    <a:pt x="147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96200" y="2161440"/>
              <a:ext cx="812880" cy="4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30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09480" y="518148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-2  MOVX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@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间接寻址示意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510552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-3  MOVX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间接寻址示意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36000" y="637344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8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3.2.5  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变址寻址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变址寻址只能对程序存储器中数据进行操作。由于程序存储器是只读的，因此变址寻址只有读操作而无写操作，在指令符号上采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形式（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-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如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C 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@ A+DPT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+DPT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如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C 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@ A+PC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+P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条指令与上条指令不同的是，基址寄存器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362320" y="55627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-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址寻址示意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33520" y="990720"/>
            <a:ext cx="7619760" cy="3961800"/>
            <a:chOff x="533520" y="990720"/>
            <a:chExt cx="7619760" cy="3961800"/>
          </a:xfrm>
        </p:grpSpPr>
        <p:sp>
          <p:nvSpPr>
            <p:cNvPr id="131" name=""/>
            <p:cNvSpPr/>
            <p:nvPr/>
          </p:nvSpPr>
          <p:spPr>
            <a:xfrm>
              <a:off x="1965960" y="1422000"/>
              <a:ext cx="1380600" cy="253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20680" y="1017000"/>
              <a:ext cx="123516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程序存储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65960" y="1805040"/>
              <a:ext cx="1380600" cy="93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84320" y="3209400"/>
              <a:ext cx="138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08000" y="4406760"/>
              <a:ext cx="40334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14720" y="1589400"/>
              <a:ext cx="926280" cy="45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2000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762960" y="990720"/>
              <a:ext cx="8175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P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88600" y="2738520"/>
              <a:ext cx="1398960" cy="45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64H(10H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97640" y="2201400"/>
              <a:ext cx="32688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30040" y="2764800"/>
              <a:ext cx="85392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2010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29400" y="2769120"/>
              <a:ext cx="11084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64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6281280" y="2804400"/>
              <a:ext cx="254160" cy="263880"/>
              <a:chOff x="6281280" y="2804400"/>
              <a:chExt cx="254160" cy="263880"/>
            </a:xfrm>
          </p:grpSpPr>
          <p:sp>
            <p:nvSpPr>
              <p:cNvPr id="143" name=""/>
              <p:cNvSpPr/>
              <p:nvPr/>
            </p:nvSpPr>
            <p:spPr>
              <a:xfrm>
                <a:off x="6281280" y="2804400"/>
                <a:ext cx="254160" cy="263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299280" y="2927160"/>
                <a:ext cx="217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408360" y="28303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3353040" y="2967120"/>
              <a:ext cx="83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24280" y="2949840"/>
              <a:ext cx="61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53280" y="1875600"/>
              <a:ext cx="0" cy="10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6514560" y="2932200"/>
              <a:ext cx="161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15000" y="2395080"/>
              <a:ext cx="6174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10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23520" y="2417040"/>
              <a:ext cx="105372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2000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7640640" y="1875600"/>
              <a:ext cx="50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05480" y="3090600"/>
              <a:ext cx="0" cy="11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520" y="3011400"/>
              <a:ext cx="635760" cy="1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6400" y="3037680"/>
              <a:ext cx="0" cy="116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6400" y="4173480"/>
              <a:ext cx="586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7236000" y="637344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8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3.2.6  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相对寻址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当前程序计数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内容为基础，加上指令给出的一字节补码数（偏移量）形成新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值的寻址方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对寻址用于修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值，主要用于实现程序的分支转移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JMP  08H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C←PC+2+08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指令操作示意图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-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MCS-51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单片机指令系统有如下特点：</a:t>
            </a: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指令执行时间快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指令短，约有一半的指令为单字节指令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用一条指令即可实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一字节的相乘或相除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具有丰富的位操作指令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直接用传送指令实现端口的输入输出操作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1143000" y="838080"/>
            <a:ext cx="7009920" cy="4343040"/>
            <a:chOff x="1143000" y="838080"/>
            <a:chExt cx="7009920" cy="4343040"/>
          </a:xfrm>
        </p:grpSpPr>
        <p:sp>
          <p:nvSpPr>
            <p:cNvPr id="161" name=""/>
            <p:cNvSpPr/>
            <p:nvPr/>
          </p:nvSpPr>
          <p:spPr>
            <a:xfrm>
              <a:off x="2755440" y="1276560"/>
              <a:ext cx="1437120" cy="27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11960" y="838080"/>
              <a:ext cx="128628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程序存储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55440" y="1691280"/>
              <a:ext cx="1437120" cy="83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74520" y="3240720"/>
              <a:ext cx="143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78680" y="4590000"/>
              <a:ext cx="4199040" cy="5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866640" y="2004480"/>
              <a:ext cx="1286280" cy="68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(2000H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200A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33800" y="1686600"/>
              <a:ext cx="8510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J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95320" y="3148560"/>
              <a:ext cx="9770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200A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21560" y="2238120"/>
              <a:ext cx="264600" cy="285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40280" y="2371320"/>
              <a:ext cx="2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053680" y="2266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7497000" y="2690640"/>
              <a:ext cx="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37200" y="2366640"/>
              <a:ext cx="64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5056560" y="3291480"/>
              <a:ext cx="24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5164200" y="2357280"/>
              <a:ext cx="168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75000" y="2516400"/>
              <a:ext cx="6429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08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89720" y="2482560"/>
              <a:ext cx="109728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2000H+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50440" y="2557440"/>
              <a:ext cx="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761560" y="2125080"/>
              <a:ext cx="145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168360" y="2104200"/>
              <a:ext cx="6998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08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61560" y="3601440"/>
              <a:ext cx="143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25120" y="1455840"/>
              <a:ext cx="68076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66240" y="1680120"/>
              <a:ext cx="88884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2000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43000" y="4213440"/>
              <a:ext cx="390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48760" y="3374280"/>
              <a:ext cx="0" cy="85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53440" y="3378960"/>
              <a:ext cx="64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438280" y="5410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-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相对寻址示意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36000" y="637344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8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3.2.7  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位寻址</a:t>
            </a: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寻址只能对有位地址的单元作位寻址操作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寻址其实是一种直接寻址方式，不过其地址是位地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如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ETB  10H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2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元中存放着数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2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元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的位地址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执行上述指令后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2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41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如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   32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2H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位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RL    C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2H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←C∨32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36000" y="637344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8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3.3  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分类指令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1760" y="1285560"/>
            <a:ext cx="754380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hlinkClick r:id="rId1" action="ppaction://hlinksldjump"/>
              </a:rPr>
              <a:t>3.3.1  数据传送类指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hlinkClick r:id="rId2" action="ppaction://hlinksldjump"/>
              </a:rPr>
              <a:t>3.3.2  算术运算类指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hlinkClick r:id="rId3" action="ppaction://hlinksldjump"/>
              </a:rPr>
              <a:t>3.3.3  逻辑运算与循环类指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hlinkClick r:id="rId4" action="ppaction://hlinksldjump"/>
              </a:rPr>
              <a:t>3.3.4  程序转移类指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hlinkClick r:id="rId5" action="ppaction://hlinksldjump"/>
              </a:rPr>
              <a:t>3.3.5  调用子程序及返回指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hlinkClick r:id="rId6" action="ppaction://hlinksldjump"/>
              </a:rPr>
              <a:t>3.3.6  位操作指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hlinkClick r:id="rId7" action="ppaction://hlinksldjump"/>
              </a:rPr>
              <a:t>3.3.7  空操作指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0" y="6373440"/>
            <a:ext cx="173052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8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3.3.1  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数据传送类指令</a:t>
            </a: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传送类指令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条，是将源操作数送到目的操作数。指令执行后，源操作数不变，目的操作数被源操作数取代。数据传送类指令用到的助记符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C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CH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WA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P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源操作数可采用寄存器、寄存器间接、直接、立即、变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寻址方式寻址，目的操作数可以采用寄存器、寄存器间接、直接寻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寻址方式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CS-5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片机片内数据传送途径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-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762120" y="914400"/>
            <a:ext cx="7010280" cy="4343040"/>
            <a:chOff x="762120" y="914400"/>
            <a:chExt cx="7010280" cy="4343040"/>
          </a:xfrm>
        </p:grpSpPr>
        <p:sp>
          <p:nvSpPr>
            <p:cNvPr id="198" name=""/>
            <p:cNvSpPr/>
            <p:nvPr/>
          </p:nvSpPr>
          <p:spPr>
            <a:xfrm>
              <a:off x="3463560" y="2405520"/>
              <a:ext cx="155592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直接地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dir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13240" y="2405520"/>
              <a:ext cx="1538640" cy="62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累加器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86600" y="914400"/>
              <a:ext cx="1555560" cy="62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直接地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dir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48080" y="2405520"/>
              <a:ext cx="1555920" cy="65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间接地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@R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2120" y="3810960"/>
              <a:ext cx="15559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寄存器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31960" y="3810960"/>
              <a:ext cx="1538640" cy="62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立即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#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33760" y="3810960"/>
              <a:ext cx="1538640" cy="58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寄存器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D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12000" y="2661480"/>
              <a:ext cx="111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2335320" y="2778480"/>
              <a:ext cx="111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5070600" y="2687760"/>
              <a:ext cx="94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113800" y="2814120"/>
              <a:ext cx="99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4241520" y="3043080"/>
              <a:ext cx="0" cy="76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2411640" y="3116880"/>
              <a:ext cx="1025640" cy="73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2326320" y="2982960"/>
              <a:ext cx="1042920" cy="7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1590840" y="3102480"/>
              <a:ext cx="2513160" cy="6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4361040" y="3058200"/>
              <a:ext cx="2410920" cy="71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340360" y="4105440"/>
              <a:ext cx="111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104800" y="4094280"/>
              <a:ext cx="111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1557000" y="3065040"/>
              <a:ext cx="0" cy="7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366200" y="3088080"/>
              <a:ext cx="0" cy="74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38640" y="1596600"/>
              <a:ext cx="0" cy="7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1121040" y="1816200"/>
              <a:ext cx="6223320" cy="502200"/>
              <a:chOff x="1121040" y="1816200"/>
              <a:chExt cx="6223320" cy="502200"/>
            </a:xfrm>
          </p:grpSpPr>
          <p:sp>
            <p:nvSpPr>
              <p:cNvPr id="220" name=""/>
              <p:cNvSpPr/>
              <p:nvPr/>
            </p:nvSpPr>
            <p:spPr>
              <a:xfrm flipH="1">
                <a:off x="1121040" y="2153520"/>
                <a:ext cx="358920" cy="16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155600" y="1816200"/>
                <a:ext cx="6188760" cy="502200"/>
              </a:xfrm>
              <a:custGeom>
                <a:avLst/>
                <a:gdLst/>
                <a:ahLst/>
                <a:rect l="l" t="t" r="r" b="b"/>
                <a:pathLst>
                  <a:path w="4368" h="392">
                    <a:moveTo>
                      <a:pt x="0" y="392"/>
                    </a:moveTo>
                    <a:cubicBezTo>
                      <a:pt x="194" y="259"/>
                      <a:pt x="388" y="126"/>
                      <a:pt x="936" y="68"/>
                    </a:cubicBezTo>
                    <a:cubicBezTo>
                      <a:pt x="1484" y="10"/>
                      <a:pt x="2716" y="0"/>
                      <a:pt x="3288" y="44"/>
                    </a:cubicBezTo>
                    <a:cubicBezTo>
                      <a:pt x="3860" y="88"/>
                      <a:pt x="4170" y="296"/>
                      <a:pt x="4368" y="33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1651320" y="1935720"/>
              <a:ext cx="5384880" cy="358920"/>
              <a:chOff x="1651320" y="1935720"/>
              <a:chExt cx="5384880" cy="358920"/>
            </a:xfrm>
          </p:grpSpPr>
          <p:sp>
            <p:nvSpPr>
              <p:cNvPr id="223" name=""/>
              <p:cNvSpPr/>
              <p:nvPr/>
            </p:nvSpPr>
            <p:spPr>
              <a:xfrm>
                <a:off x="6728400" y="2170440"/>
                <a:ext cx="307800" cy="6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651320" y="1935720"/>
                <a:ext cx="5379840" cy="358920"/>
              </a:xfrm>
              <a:custGeom>
                <a:avLst/>
                <a:gdLst/>
                <a:ahLst/>
                <a:rect l="l" t="t" r="r" b="b"/>
                <a:pathLst>
                  <a:path w="4368" h="392">
                    <a:moveTo>
                      <a:pt x="0" y="392"/>
                    </a:moveTo>
                    <a:cubicBezTo>
                      <a:pt x="194" y="259"/>
                      <a:pt x="388" y="126"/>
                      <a:pt x="936" y="68"/>
                    </a:cubicBezTo>
                    <a:cubicBezTo>
                      <a:pt x="1484" y="10"/>
                      <a:pt x="2716" y="0"/>
                      <a:pt x="3288" y="44"/>
                    </a:cubicBezTo>
                    <a:cubicBezTo>
                      <a:pt x="3860" y="88"/>
                      <a:pt x="4170" y="296"/>
                      <a:pt x="4368" y="33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1377360" y="4660920"/>
              <a:ext cx="593280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1752480" y="55627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-6  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片机片内数据传送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  <a:ea typeface="楷体_GB2312"/>
              </a:rPr>
              <a:t>．以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  <a:ea typeface="楷体_GB2312"/>
              </a:rPr>
              <a:t>为目的操作数</a:t>
            </a: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1760" y="1352520"/>
            <a:ext cx="754380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 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← R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 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irec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irec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 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@R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 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#dat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← #dat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00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cccc00"/>
                </a:solidFill>
                <a:latin typeface="Times New Roman"/>
                <a:ea typeface="楷体_GB2312"/>
              </a:rPr>
              <a:t>．以</a:t>
            </a:r>
            <a:r>
              <a:rPr b="0" lang="zh-CN" sz="3200" spc="-1" strike="noStrike">
                <a:solidFill>
                  <a:srgbClr val="cccc00"/>
                </a:solidFill>
                <a:latin typeface="Times New Roman"/>
                <a:ea typeface="楷体_GB2312"/>
              </a:rPr>
              <a:t>Rn</a:t>
            </a:r>
            <a:r>
              <a:rPr b="0" lang="zh-CN" sz="3200" spc="-1" strike="noStrike">
                <a:solidFill>
                  <a:srgbClr val="cccc00"/>
                </a:solidFill>
                <a:latin typeface="Times New Roman"/>
                <a:ea typeface="楷体_GB2312"/>
              </a:rPr>
              <a:t>为目的操作数</a:t>
            </a: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5200" y="1285560"/>
            <a:ext cx="747072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  R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n ←  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  R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irec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n 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irec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  R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#dat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n ← #dat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  <a:ea typeface="楷体_GB2312"/>
              </a:rPr>
              <a:t>．以直接地址为目的操作数</a:t>
            </a: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5200" y="1285560"/>
            <a:ext cx="747072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  @R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←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  @R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irec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←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irec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  @R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#dat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←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#dat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00"/>
                </a:solidFill>
                <a:latin typeface="Times New Roman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cccc00"/>
                </a:solidFill>
                <a:latin typeface="Times New Roman"/>
                <a:ea typeface="楷体_GB2312"/>
              </a:rPr>
              <a:t>．以间接地址为目的操作数</a:t>
            </a: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5200" y="1285560"/>
            <a:ext cx="747072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  @R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←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  @R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irec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←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irec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  @R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#dat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←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#dat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如：设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6F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1=4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执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 @R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后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元中数据取出送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间接寻址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元，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6F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00"/>
                </a:solidFill>
                <a:latin typeface="Times New Roman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  <a:ea typeface="楷体_GB2312"/>
              </a:rPr>
              <a:t>．以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  <a:ea typeface="楷体_GB2312"/>
              </a:rPr>
              <a:t>DPTR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  <a:ea typeface="楷体_GB2312"/>
              </a:rPr>
              <a:t>为目的操作数</a:t>
            </a: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5200" y="1285560"/>
            <a:ext cx="747072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  DPT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#data16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PTR ← #data16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如执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 DPT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#2000H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后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PT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200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00"/>
                </a:solidFill>
                <a:latin typeface="Times New Roman"/>
              </a:rPr>
              <a:t>3.1  MCS-51</a:t>
            </a:r>
            <a:r>
              <a:rPr b="1" lang="zh-CN" sz="2800" spc="-1" strike="noStrike">
                <a:solidFill>
                  <a:srgbClr val="cccc00"/>
                </a:solidFill>
                <a:latin typeface="Times New Roman"/>
              </a:rPr>
              <a:t>指令系统的分类、格式及一般说明</a:t>
            </a:r>
            <a:r>
              <a:rPr b="1" lang="zh-CN" sz="2800" spc="-1" strike="noStrike">
                <a:solidFill>
                  <a:srgbClr val="cccc0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1760" y="1351080"/>
            <a:ext cx="7543800" cy="47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hlinkClick r:id="rId1" action="ppaction://hlinksldjump"/>
              </a:rPr>
              <a:t>3.1.1  指令分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hlinkClick r:id="rId2" action="ppaction://hlinksldjump"/>
              </a:rPr>
              <a:t>3.1.2  指令格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hlinkClick r:id="rId3" action="ppaction://hlinksldjump"/>
              </a:rPr>
              <a:t>3.1.3  指令描述符号介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0" y="6373440"/>
            <a:ext cx="173052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8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00"/>
                </a:solidFill>
                <a:latin typeface="Times New Roman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  <a:ea typeface="楷体_GB2312"/>
              </a:rPr>
              <a:t>．访问外部数据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  <a:ea typeface="楷体_GB2312"/>
              </a:rPr>
              <a:t>RAM </a:t>
            </a: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5200" y="1285560"/>
            <a:ext cx="747072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X 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@DPT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 ←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PT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X  @DPT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PT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←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X 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@R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 ←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2R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X  @R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2R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←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00"/>
                </a:solidFill>
                <a:latin typeface="Times New Roman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  <a:ea typeface="楷体_GB2312"/>
              </a:rPr>
              <a:t>．读程序存储器</a:t>
            </a: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5200" y="1285560"/>
            <a:ext cx="747072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VC  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@A+DPT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←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+DPT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VC  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@A+P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←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+P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如已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=30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PTR=3000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存储器单元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030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50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执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VC 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@ A+DPT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后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=50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00"/>
                </a:solidFill>
                <a:latin typeface="Times New Roman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  <a:ea typeface="楷体_GB2312"/>
              </a:rPr>
              <a:t>．数据交换</a:t>
            </a: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5200" y="1352520"/>
            <a:ext cx="747072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字节交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CH 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&lt;=&gt; R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CH  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irec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&lt;=&g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irec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CH 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@R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&lt;=&g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半字节交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CHD 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@R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lt;=&g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WAP 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lt;=&gt;A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00"/>
                </a:solidFill>
                <a:latin typeface="Times New Roman"/>
                <a:ea typeface="楷体_GB2312"/>
              </a:rPr>
              <a:t>9</a:t>
            </a:r>
            <a:r>
              <a:rPr b="0" lang="zh-CN" sz="3200" spc="-1" strike="noStrike">
                <a:solidFill>
                  <a:srgbClr val="cccc00"/>
                </a:solidFill>
                <a:latin typeface="Times New Roman"/>
                <a:ea typeface="楷体_GB2312"/>
              </a:rPr>
              <a:t>．堆栈操作</a:t>
            </a: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5200" y="1219320"/>
            <a:ext cx="7470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谓堆栈是在片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按“先进后出，后进先出”原则设置的专用存储区。数据的进栈出栈由指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统一管理。堆栈的操作有如下两条专用指令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USH    direc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P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P+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，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←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irec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irec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irec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←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P ← SP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进栈（或称为压入操作）指令。指令执行过程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-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685800" y="838080"/>
            <a:ext cx="7772040" cy="4876560"/>
            <a:chOff x="685800" y="838080"/>
            <a:chExt cx="7772040" cy="4876560"/>
          </a:xfrm>
        </p:grpSpPr>
        <p:sp>
          <p:nvSpPr>
            <p:cNvPr id="246" name=""/>
            <p:cNvSpPr/>
            <p:nvPr/>
          </p:nvSpPr>
          <p:spPr>
            <a:xfrm>
              <a:off x="1612800" y="5183640"/>
              <a:ext cx="265608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62880" y="838080"/>
              <a:ext cx="726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片内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R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91200" y="2161800"/>
              <a:ext cx="559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30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14600" y="3786840"/>
              <a:ext cx="559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11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28640" y="4155480"/>
              <a:ext cx="559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10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657480" y="4191120"/>
              <a:ext cx="4881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886800" y="4388400"/>
              <a:ext cx="27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81280" y="3835440"/>
              <a:ext cx="50040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×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03080" y="838080"/>
              <a:ext cx="726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片内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R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08840" y="1605960"/>
              <a:ext cx="7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759680" y="1233360"/>
              <a:ext cx="48816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50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35000" y="1259280"/>
              <a:ext cx="559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40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55160" y="3792600"/>
              <a:ext cx="559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11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68840" y="4160880"/>
              <a:ext cx="559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10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5800" y="4178160"/>
              <a:ext cx="4881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95320" y="4178160"/>
              <a:ext cx="50040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×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98200" y="4396680"/>
              <a:ext cx="27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70080" y="5183640"/>
              <a:ext cx="248940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994800" y="1238040"/>
              <a:ext cx="559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40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007280" y="2133360"/>
              <a:ext cx="559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30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603080" y="1263600"/>
              <a:ext cx="702720" cy="332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03080" y="2171880"/>
              <a:ext cx="702720" cy="34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03080" y="3882600"/>
              <a:ext cx="70272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76880" y="839160"/>
              <a:ext cx="726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片内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R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29880" y="1230840"/>
              <a:ext cx="381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50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09160" y="1254960"/>
              <a:ext cx="559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40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28960" y="3778560"/>
              <a:ext cx="559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11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943000" y="4146840"/>
              <a:ext cx="559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10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18000" y="3804120"/>
              <a:ext cx="476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50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96040" y="4146840"/>
              <a:ext cx="50040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×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2440440" y="3799800"/>
              <a:ext cx="600120" cy="325440"/>
              <a:chOff x="2440440" y="3799800"/>
              <a:chExt cx="600120" cy="325440"/>
            </a:xfrm>
          </p:grpSpPr>
          <p:sp>
            <p:nvSpPr>
              <p:cNvPr id="277" name=""/>
              <p:cNvSpPr/>
              <p:nvPr/>
            </p:nvSpPr>
            <p:spPr>
              <a:xfrm>
                <a:off x="2440440" y="3799800"/>
                <a:ext cx="48816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spcBef>
                    <a:spcPts val="201"/>
                  </a:spcBef>
                  <a:spcAft>
                    <a:spcPts val="2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767680" y="3996720"/>
                <a:ext cx="27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 flipH="1">
              <a:off x="4070520" y="398844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80480" y="1422000"/>
              <a:ext cx="4680" cy="257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110480" y="1405080"/>
              <a:ext cx="27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03040" y="2145960"/>
              <a:ext cx="559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30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04960" y="1567440"/>
              <a:ext cx="7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98840" y="1225080"/>
              <a:ext cx="702720" cy="330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98840" y="2133360"/>
              <a:ext cx="702720" cy="34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98840" y="3834360"/>
              <a:ext cx="702720" cy="34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85920" y="838080"/>
              <a:ext cx="726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片内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R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18200" y="1289160"/>
              <a:ext cx="55980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40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38000" y="3822480"/>
              <a:ext cx="559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11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252040" y="4191120"/>
              <a:ext cx="559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10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26680" y="3848400"/>
              <a:ext cx="476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34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905080" y="4191120"/>
              <a:ext cx="50040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×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4749480" y="3844080"/>
              <a:ext cx="600120" cy="325440"/>
              <a:chOff x="4749480" y="3844080"/>
              <a:chExt cx="600120" cy="325440"/>
            </a:xfrm>
          </p:grpSpPr>
          <p:sp>
            <p:nvSpPr>
              <p:cNvPr id="294" name=""/>
              <p:cNvSpPr/>
              <p:nvPr/>
            </p:nvSpPr>
            <p:spPr>
              <a:xfrm>
                <a:off x="4749480" y="3844080"/>
                <a:ext cx="48816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spcBef>
                    <a:spcPts val="201"/>
                  </a:spcBef>
                  <a:spcAft>
                    <a:spcPts val="2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076720" y="4041000"/>
                <a:ext cx="27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5212080" y="2180160"/>
              <a:ext cx="559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30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13640" y="1602000"/>
              <a:ext cx="7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07880" y="1259280"/>
              <a:ext cx="702720" cy="330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07880" y="2167200"/>
              <a:ext cx="70272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807880" y="3878280"/>
              <a:ext cx="70272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719480" y="2137680"/>
              <a:ext cx="381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34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71960" y="3831480"/>
              <a:ext cx="476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34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50360" y="4173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×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8124480" y="2373120"/>
              <a:ext cx="30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429400" y="2381760"/>
              <a:ext cx="0" cy="162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164440" y="4001040"/>
              <a:ext cx="27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58920" y="1584720"/>
              <a:ext cx="7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553160" y="1242000"/>
              <a:ext cx="702720" cy="332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553160" y="2150280"/>
              <a:ext cx="70272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553160" y="3861000"/>
              <a:ext cx="70272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928840" y="2133360"/>
              <a:ext cx="50040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×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75440" y="4683600"/>
              <a:ext cx="541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执行前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927760" y="4683600"/>
              <a:ext cx="541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执行前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009240" y="4649760"/>
              <a:ext cx="1646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执行前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PUSH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指令后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103160" y="4700880"/>
              <a:ext cx="1354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执行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POP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指令后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990720" y="57150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-7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令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操作示意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5520" y="569916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-8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令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操作示意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837720"/>
            <a:ext cx="8077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【例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3.1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】  将片内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RAM 30H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单元与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40H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单元中的内容互换。</a:t>
            </a:r>
            <a:endParaRPr b="1" lang="en-US" sz="28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698640" cy="32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直接地址传送法）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1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0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0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0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0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1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J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48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间接地址传送法）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#40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#30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@R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@R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@R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@R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J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62120" y="1352520"/>
            <a:ext cx="369864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字节交换传送法）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0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C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0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0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J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06560" y="1352520"/>
            <a:ext cx="369900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堆栈传送法）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0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0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0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0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J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236000" y="637344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8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3.3.2  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算术运算类指令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5200" y="1285560"/>
            <a:ext cx="747072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加法指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D 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← A + R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D 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irec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← A 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irec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D 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@R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← A 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D 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#dat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← A + #dat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07920" y="1352520"/>
            <a:ext cx="739800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带进位加指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DC 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← A + Rn + 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DC 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irec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← A 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irec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DC 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@R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← A 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DC 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#dat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← A + #data + 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来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SW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状态寄存器中的进位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如，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=2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0=21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=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执行指令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D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Ａ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后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=42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07920" y="1285560"/>
            <a:ext cx="739800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带借位减指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UBB 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← A - Rn - 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UBB 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irec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← A 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irec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 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UBB 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@R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← A 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 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UBB 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#dat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← A - #data – 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如，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=39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0=2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32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=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执行指令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UB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Ａ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@R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后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=06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3.1.1  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指令分类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指令功能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CS-5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指令系统分为数据传递与交换、算术运算、逻辑运算、程序转移、布尔处理操作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控制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类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布尔处理操作类指令又称位操作指令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36000" y="637344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8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07920" y="1352520"/>
            <a:ext cx="739800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乘法指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UL   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A← A×B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各存放一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无符号数，指令执行后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乘积的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，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=3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=6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执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UL AB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后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=0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=12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除法指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IV   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÷B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商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，余数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各存放一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无符号数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放被除数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放除数。指令执行后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存放商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存入余数。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=0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指令执行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V=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变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=3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=07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执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IV AB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后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=06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=06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07920" y="1352520"/>
            <a:ext cx="739800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指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NC 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← A + 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NC  R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n← Rn + 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NC  direc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irec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←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irec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NC  @R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←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NC  DPT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PTR← DPTR + 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如，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22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执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NC 30H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后，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23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80640" y="1285560"/>
            <a:ext cx="732492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指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EC 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← A - 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EC  R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n← Rn - 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EC  direc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irect←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irec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EC  @R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←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0=3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22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执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EC @R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后，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21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5200" y="1352520"/>
            <a:ext cx="747072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十进制调整指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A  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按二进制相加的结果调整成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码相加的结果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=65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B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=78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B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=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执行下列语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后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=43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 B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=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07920" y="1820520"/>
            <a:ext cx="73980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【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】  试把存放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1R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3R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的两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数相加，结果存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5R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。解：参考程序如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取第一个数的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两数的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相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保存和的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取第一个数的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D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两数的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相加，并把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相加时的进位位加进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把相加的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存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存器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JMP  $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236000" y="637344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8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3.3.3  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逻辑运算与循环类指令</a:t>
            </a: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5200" y="1285560"/>
            <a:ext cx="747072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“与”操作指令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“或”操作指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“异或”操作指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求反与清除指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循环指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236000" y="637344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8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3.3.4  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程序转移类指令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无条件转移指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绝对（短）转移指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J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ddr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← addr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长转移指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J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ddr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C ← addr1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短（相对）转移指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J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e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C ← PC + 2 + r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间接转移指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J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@A+DPT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C ← A + DPT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条件转移指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累加器为零（非零）转移指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非零转移指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两数不等转移指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相对偏移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re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的求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3.1.2  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指令格式</a:t>
            </a: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CS-5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指令中，一般指令主要由操作码、操作数组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指令应具有以下功能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操作码指明执行什么性质和类型的操作。例如，数的传送、加法、减法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操作数指明操作的数本身或者是操作数所在的地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指定操作结果存放的地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36000" y="637344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8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1371600" y="380880"/>
            <a:ext cx="7314840" cy="5681520"/>
            <a:chOff x="1371600" y="380880"/>
            <a:chExt cx="7314840" cy="5681520"/>
          </a:xfrm>
        </p:grpSpPr>
        <p:grpSp>
          <p:nvGrpSpPr>
            <p:cNvPr id="354" name=""/>
            <p:cNvGrpSpPr/>
            <p:nvPr/>
          </p:nvGrpSpPr>
          <p:grpSpPr>
            <a:xfrm>
              <a:off x="1378440" y="385560"/>
              <a:ext cx="7299360" cy="5671440"/>
              <a:chOff x="1378440" y="385560"/>
              <a:chExt cx="7299360" cy="5671440"/>
            </a:xfrm>
          </p:grpSpPr>
          <p:grpSp>
            <p:nvGrpSpPr>
              <p:cNvPr id="355" name=""/>
              <p:cNvGrpSpPr/>
              <p:nvPr/>
            </p:nvGrpSpPr>
            <p:grpSpPr>
              <a:xfrm>
                <a:off x="1378440" y="385560"/>
                <a:ext cx="1824480" cy="708120"/>
                <a:chOff x="1378440" y="385560"/>
                <a:chExt cx="1824480" cy="70812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1481040" y="385560"/>
                  <a:ext cx="1619280" cy="70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0000H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～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07FF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378440" y="385560"/>
                  <a:ext cx="1824480" cy="70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3203280" y="385560"/>
                <a:ext cx="1824480" cy="708120"/>
                <a:chOff x="3203280" y="385560"/>
                <a:chExt cx="1824480" cy="70812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3305160" y="385560"/>
                  <a:ext cx="1619640" cy="70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0800H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～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0FFF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3203280" y="385560"/>
                  <a:ext cx="1824480" cy="70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5028480" y="385560"/>
                <a:ext cx="1824480" cy="708120"/>
                <a:chOff x="5028480" y="385560"/>
                <a:chExt cx="1824480" cy="70812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5130360" y="385560"/>
                  <a:ext cx="1619640" cy="70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1000H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～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17FF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5028480" y="385560"/>
                  <a:ext cx="1824480" cy="70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6853680" y="385560"/>
                <a:ext cx="1824120" cy="708120"/>
                <a:chOff x="6853680" y="385560"/>
                <a:chExt cx="1824120" cy="7081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6955560" y="385560"/>
                  <a:ext cx="1620000" cy="70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1800H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～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1FFF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853680" y="385560"/>
                  <a:ext cx="1824120" cy="70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1378440" y="1094040"/>
                <a:ext cx="1824480" cy="708840"/>
                <a:chOff x="1378440" y="1094040"/>
                <a:chExt cx="1824480" cy="70884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1481040" y="1094040"/>
                  <a:ext cx="161928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2000H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～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27FF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378440" y="1094040"/>
                  <a:ext cx="1824480" cy="70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3203280" y="1094040"/>
                <a:ext cx="1824480" cy="708840"/>
                <a:chOff x="3203280" y="1094040"/>
                <a:chExt cx="1824480" cy="70884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3305160" y="1094040"/>
                  <a:ext cx="161964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2800H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～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2FFF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3203280" y="1094040"/>
                  <a:ext cx="1824480" cy="70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028480" y="1094040"/>
                <a:ext cx="1824480" cy="708840"/>
                <a:chOff x="5028480" y="1094040"/>
                <a:chExt cx="1824480" cy="70884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5130360" y="1094040"/>
                  <a:ext cx="161964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3000H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～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37FF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028480" y="1094040"/>
                  <a:ext cx="1824480" cy="70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6853680" y="1094040"/>
                <a:ext cx="1824120" cy="708840"/>
                <a:chOff x="6853680" y="1094040"/>
                <a:chExt cx="1824120" cy="70884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6955560" y="1094040"/>
                  <a:ext cx="162000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3800H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～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3FFF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853680" y="1094040"/>
                  <a:ext cx="1824120" cy="70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1378440" y="1803240"/>
                <a:ext cx="1824480" cy="708120"/>
                <a:chOff x="1378440" y="1803240"/>
                <a:chExt cx="1824480" cy="7081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1481040" y="1803240"/>
                  <a:ext cx="1619280" cy="70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4000H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～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47FF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378440" y="1803240"/>
                  <a:ext cx="1824480" cy="70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3203280" y="1803240"/>
                <a:ext cx="1824480" cy="708120"/>
                <a:chOff x="3203280" y="1803240"/>
                <a:chExt cx="1824480" cy="70812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3305160" y="1803240"/>
                  <a:ext cx="1619640" cy="70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4800H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～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4FFF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3203280" y="1803240"/>
                  <a:ext cx="1824480" cy="70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5028480" y="1803240"/>
                <a:ext cx="1824480" cy="708120"/>
                <a:chOff x="5028480" y="1803240"/>
                <a:chExt cx="1824480" cy="7081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130360" y="1803240"/>
                  <a:ext cx="1619640" cy="70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5000H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～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57FF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028480" y="1803240"/>
                  <a:ext cx="1824480" cy="70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6853680" y="1803240"/>
                <a:ext cx="1824120" cy="708120"/>
                <a:chOff x="6853680" y="1803240"/>
                <a:chExt cx="1824120" cy="70812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6955560" y="1803240"/>
                  <a:ext cx="1620000" cy="70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5800H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～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5FFF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853680" y="1803240"/>
                  <a:ext cx="1824120" cy="70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1378440" y="2512080"/>
                <a:ext cx="1824480" cy="708840"/>
                <a:chOff x="1378440" y="2512080"/>
                <a:chExt cx="1824480" cy="70884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1481040" y="2512080"/>
                  <a:ext cx="161928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6000H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～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67FF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378440" y="2512080"/>
                  <a:ext cx="1824480" cy="70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3203280" y="2512080"/>
                <a:ext cx="1824480" cy="708840"/>
                <a:chOff x="3203280" y="2512080"/>
                <a:chExt cx="1824480" cy="70884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3305160" y="2512080"/>
                  <a:ext cx="161964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6800H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～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6FFF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3203280" y="2512080"/>
                  <a:ext cx="1824480" cy="70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5028480" y="2512080"/>
                <a:ext cx="1824480" cy="708840"/>
                <a:chOff x="5028480" y="2512080"/>
                <a:chExt cx="1824480" cy="70884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5130360" y="2512080"/>
                  <a:ext cx="161964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7000H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～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77FF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5028480" y="2512080"/>
                  <a:ext cx="1824480" cy="70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6853680" y="2512080"/>
                <a:ext cx="1824120" cy="708840"/>
                <a:chOff x="6853680" y="2512080"/>
                <a:chExt cx="1824120" cy="70884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6955560" y="2512080"/>
                  <a:ext cx="162000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7800H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～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7FFF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853680" y="2512080"/>
                  <a:ext cx="1824120" cy="70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1378440" y="3221280"/>
                <a:ext cx="1824480" cy="708120"/>
                <a:chOff x="1378440" y="3221280"/>
                <a:chExt cx="1824480" cy="7081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1481040" y="3221280"/>
                  <a:ext cx="1619280" cy="70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8000H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～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87FF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1378440" y="3221280"/>
                  <a:ext cx="1824480" cy="70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3203280" y="3221280"/>
                <a:ext cx="1824480" cy="708120"/>
                <a:chOff x="3203280" y="3221280"/>
                <a:chExt cx="1824480" cy="7081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3305160" y="3221280"/>
                  <a:ext cx="1619640" cy="70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8800H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～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8FFF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203280" y="3221280"/>
                  <a:ext cx="1824480" cy="70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5028480" y="3221280"/>
                <a:ext cx="1824480" cy="708120"/>
                <a:chOff x="5028480" y="3221280"/>
                <a:chExt cx="1824480" cy="7081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5130360" y="3221280"/>
                  <a:ext cx="1619640" cy="70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9000H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～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97FF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5028480" y="3221280"/>
                  <a:ext cx="1824480" cy="70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6853680" y="3221280"/>
                <a:ext cx="1824120" cy="708120"/>
                <a:chOff x="6853680" y="3221280"/>
                <a:chExt cx="1824120" cy="7081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6955560" y="3221280"/>
                  <a:ext cx="1620000" cy="70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9800H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～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9FFF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853680" y="3221280"/>
                  <a:ext cx="1824120" cy="70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1378440" y="3930120"/>
                <a:ext cx="1824480" cy="708840"/>
                <a:chOff x="1378440" y="3930120"/>
                <a:chExt cx="1824480" cy="7088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1481040" y="3930120"/>
                  <a:ext cx="161928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A000H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～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A7FF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378440" y="3930120"/>
                  <a:ext cx="1824480" cy="70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3203280" y="3930120"/>
                <a:ext cx="1824480" cy="708840"/>
                <a:chOff x="3203280" y="3930120"/>
                <a:chExt cx="1824480" cy="7088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3305160" y="3930120"/>
                  <a:ext cx="161964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A800H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～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AFFF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203280" y="3930120"/>
                  <a:ext cx="1824480" cy="70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5028480" y="3930120"/>
                <a:ext cx="1824480" cy="708840"/>
                <a:chOff x="5028480" y="3930120"/>
                <a:chExt cx="1824480" cy="70884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5130360" y="3930120"/>
                  <a:ext cx="161964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B000H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～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B7FF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028480" y="3930120"/>
                  <a:ext cx="1824480" cy="70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6853680" y="3930120"/>
                <a:ext cx="1824120" cy="708840"/>
                <a:chOff x="6853680" y="3930120"/>
                <a:chExt cx="1824120" cy="70884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6955560" y="3930120"/>
                  <a:ext cx="162000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B800H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～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BFFF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853680" y="3930120"/>
                  <a:ext cx="1824120" cy="70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1378440" y="4639320"/>
                <a:ext cx="1824480" cy="708120"/>
                <a:chOff x="1378440" y="4639320"/>
                <a:chExt cx="1824480" cy="70812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1481040" y="4639320"/>
                  <a:ext cx="1619280" cy="70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000H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～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7FF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1378440" y="4639320"/>
                  <a:ext cx="1824480" cy="70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3203280" y="4639320"/>
                <a:ext cx="1824480" cy="708120"/>
                <a:chOff x="3203280" y="4639320"/>
                <a:chExt cx="1824480" cy="70812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3305160" y="4639320"/>
                  <a:ext cx="1619640" cy="70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800H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～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FFF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203280" y="4639320"/>
                  <a:ext cx="1824480" cy="70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5028480" y="4639320"/>
                <a:ext cx="1824480" cy="708120"/>
                <a:chOff x="5028480" y="4639320"/>
                <a:chExt cx="1824480" cy="70812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5130360" y="4639320"/>
                  <a:ext cx="1619640" cy="70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000H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～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7FF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028480" y="4639320"/>
                  <a:ext cx="1824480" cy="70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6853680" y="4639320"/>
                <a:ext cx="1824120" cy="708120"/>
                <a:chOff x="6853680" y="4639320"/>
                <a:chExt cx="1824120" cy="70812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6955560" y="4639320"/>
                  <a:ext cx="1620000" cy="70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800H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～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FFF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853680" y="4639320"/>
                  <a:ext cx="1824120" cy="70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1378440" y="5348160"/>
                <a:ext cx="1824480" cy="708840"/>
                <a:chOff x="1378440" y="5348160"/>
                <a:chExt cx="1824480" cy="70884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1481040" y="5348160"/>
                  <a:ext cx="161928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000H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～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7FF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1378440" y="5348160"/>
                  <a:ext cx="1824480" cy="70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3203280" y="5348160"/>
                <a:ext cx="1824480" cy="708840"/>
                <a:chOff x="3203280" y="5348160"/>
                <a:chExt cx="1824480" cy="70884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3305160" y="5348160"/>
                  <a:ext cx="161964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800H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～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FFF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203280" y="5348160"/>
                  <a:ext cx="1824480" cy="70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5028480" y="5348160"/>
                <a:ext cx="1824480" cy="708840"/>
                <a:chOff x="5028480" y="5348160"/>
                <a:chExt cx="1824480" cy="70884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5130360" y="5348160"/>
                  <a:ext cx="161964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F000H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～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F7FF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5028480" y="5348160"/>
                  <a:ext cx="1824480" cy="70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6853680" y="5348160"/>
                <a:ext cx="1824120" cy="708840"/>
                <a:chOff x="6853680" y="5348160"/>
                <a:chExt cx="1824120" cy="70884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6955560" y="5348160"/>
                  <a:ext cx="162000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F800H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～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FFFF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853680" y="5348160"/>
                  <a:ext cx="1824120" cy="70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1" name=""/>
            <p:cNvSpPr/>
            <p:nvPr/>
          </p:nvSpPr>
          <p:spPr>
            <a:xfrm>
              <a:off x="1371600" y="380880"/>
              <a:ext cx="7314840" cy="56815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383400" y="990720"/>
            <a:ext cx="91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-1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程序存储器空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地址范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236000" y="637344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8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3.3.5  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调用子程序及返回指令</a:t>
            </a: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4840" y="1285560"/>
            <a:ext cx="739764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调用子程序指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CALL addr16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C←PC+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P←SP+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P←SP+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C←addr1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CALL addr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C ←PC+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P←SP+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P ← SP+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←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←addr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07920" y="1285560"/>
            <a:ext cx="739800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返回指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ET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←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P←SP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←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P←SP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ETI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P←SP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P←SP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236000" y="637344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8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3.3.6  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位操作指令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位数据传送指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V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it←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位状态修改指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L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←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L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P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P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←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ET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←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ET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位逻辑运算指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i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←C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i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/bi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←C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i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R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i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←C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i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R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/bi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←C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i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位转移指令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e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=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转移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C←PC+2+re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；否则程序顺序执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N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e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=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转移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C←PC+2+re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；否则程序顺序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i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e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bit)=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转移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C←PC+3+re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；否则程序顺序执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N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i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e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bit)=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转移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C←PC+3+re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；否则程序顺序执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i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e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bit)=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C←PC+3+re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i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否则程序顺序执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功能：分别检测指定位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还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若条件符合，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向指定的目标地址去执行程序；否则，顺序执行下条指令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236000" y="637344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8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3.3.7  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空操作指令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OP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C  ← PC+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是一条单字节指令。执行时，不作任何操作（即空操作），仅将程序计数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内容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指向下一条指令继续执行程序。这条指令常用来产生一个机器周期的时间延迟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236000" y="637344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8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1185480" y="2502000"/>
            <a:ext cx="6808680" cy="29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6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本章到此结束，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6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谢谢您的光临！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>
            <a:hlinkClick r:id="" action="ppaction://hlinkshowjump?jump=endshow"/>
          </p:cNvPr>
          <p:cNvSpPr/>
          <p:nvPr/>
        </p:nvSpPr>
        <p:spPr>
          <a:xfrm>
            <a:off x="5486400" y="637344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8000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0" y="6373440"/>
            <a:ext cx="173052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8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THANK YOU VERY MUCH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！</a:t>
            </a: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228600" y="2286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3.1.3  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指令描述符号介绍</a:t>
            </a: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n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前选中的寄存器区中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工作寄存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=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i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前选中的寄存器区中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工作寄存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=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irect—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的内部数据存储器单元中的地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#data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包含在指令中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常数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#data16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包含在指令中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常数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dr16——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目的地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dr11——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目的地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1760" y="1415520"/>
            <a:ext cx="7399080" cy="35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el——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带符号的偏移字节，简称偏移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PTR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指针，可用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地址寄存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it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专用寄存器中的直接寻址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累加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专用寄存器，用于乘法和除法指令中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进位标志或进位位，或布尔处理机中的累加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85800" y="6477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@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间址寄存器或基址寄存器的前缀，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@R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@DPT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/ 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操作数的前缀，表示对该位操作数取反，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/bi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×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片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直接地址或寄存器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×)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寻址的单元中的内容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箭头左边的内容被箭头右边的内容所代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879480" y="6867360"/>
            <a:ext cx="33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6176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36000" y="637344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8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3.2  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寻址方式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hlinkClick r:id="rId1" action="ppaction://hlinksldjump"/>
              </a:rPr>
              <a:t>3.2.1  立即寻址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hlinkClick r:id="rId2" action="ppaction://hlinksldjump"/>
              </a:rPr>
              <a:t>3.2.2  直接寻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hlinkClick r:id="rId3" action="ppaction://hlinksldjump"/>
              </a:rPr>
              <a:t>3.2.3  寄存器寻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hlinkClick r:id="rId4" action="ppaction://hlinksldjump"/>
              </a:rPr>
              <a:t>3.2.4  寄存器间接寻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hlinkClick r:id="rId5" action="ppaction://hlinksldjump"/>
              </a:rPr>
              <a:t>3.2.5  变址寻址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hlinkClick r:id="rId6" action="ppaction://hlinksldjump"/>
              </a:rPr>
              <a:t>3.2.6  相对寻址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hlinkClick r:id="rId7" action="ppaction://hlinksldjump"/>
              </a:rPr>
              <a:t>3.2.7  位寻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6373440"/>
            <a:ext cx="173052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8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31T07:12:30Z</dcterms:created>
  <dc:creator>liwu</dc:creator>
  <dc:description/>
  <dc:language>en-US</dc:language>
  <cp:lastModifiedBy>新人电脑</cp:lastModifiedBy>
  <dcterms:modified xsi:type="dcterms:W3CDTF">2002-06-11T13:41:52Z</dcterms:modified>
  <cp:revision>34</cp:revision>
  <dc:subject/>
  <dc:title>第3章  MCS-51单片机指令系统 </dc:title>
</cp:coreProperties>
</file>